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75E-8A0D-4847-AD3D-E919F0D5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0E5-44DF-46C4-8F5A-8DE2F476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07D-7F9C-45BB-8270-B05F1D0C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EF7-5D39-4B82-92FC-24291395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DDA-90BF-424D-8DAA-82AB1E3B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45B-0E84-489B-B70A-D29FEC71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E10-D873-42B2-8538-4B3C30AF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C24-1CAE-4C9A-8C04-AA4E9546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087-0266-4254-8057-BD63B7A2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4F8-A340-4E3D-987C-3E2DDFD1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B12-15AD-4ADD-B8B9-3303FD8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467-FE1C-46E7-A293-F5A0DD8C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8459-FCF2-49AD-A48C-EBDEE1F92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9898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porting Information Produc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 Elements, POCCC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high-quality user interfaces, FU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effective information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effectiveness of decisions &amp; actions through Problem-solving process, con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ata choice appropriate for validation techniq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results compared with expected results in tes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ropriate on-screen user document completed to support users of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elements of visu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hierarchy of page on screen; the prominence of various elements 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 of page elements, sizing of fonts &amp; graphic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and aspect of elements on a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direction of logo; size of on-screen page; how is the help file to be viewed, full screen Vs floating window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elements of visual design, con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rity &amp;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arity - How clearly all screen elements can be vie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sistency – Elements such as heading styles, color schemes &amp; navigation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 of accepted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lor &amp; 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lors should make the on-screen product readable &amp;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trast, should be contrast b/w background &amp;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igh-quality user interfaces &amp; effective information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ability &amp; 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nsparent interface, ie. Access the information so easily don’t notice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terface should be clear, thoroughly planned with logical information architecture, avoid long or wide screens requiring sc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nt selection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two types of fonts, serif &amp; sans se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two type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igh-quality user interfaces &amp; effective information architecture, cont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find what users want immediat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simple and familiar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common words, eg. Help, for a help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common navigation symbols, eg.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know type of equipment user is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igh-quality user interfaces &amp; effective information architecture, cont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 should be able to be read in common software applications, eg. Ad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ness &amp;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meet needs of intende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highly techni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 information architecture for an on-screen information 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in which information is structured and ways it can be navigated by a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ly planned using design tools, eg. site maps &amp; story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must be 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ually representing decisions &amp;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ations record decisions taken during the problem-solv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acing &amp; analysis of decisions &amp; actions mean difficulties or errors occurred can be identified &amp; ad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to visually represent dec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mapping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effectiveness of decisions &amp; actions through Problem-solv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was problem correctly identified; data selected complete; appropriate output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s/w chosen appropriate? Functions appropri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g. designs followed accurately? Data entry accurate 7 validated; solutions timely? Regular backup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8T23:57:22Z</dcterms:created>
  <dc:creator>Kelvin Baird</dc:creator>
  <dc:description/>
  <dc:language>en-US</dc:language>
  <cp:lastModifiedBy>Kelvin Baird</cp:lastModifiedBy>
  <dcterms:modified xsi:type="dcterms:W3CDTF">2007-07-09T01:13:45Z</dcterms:modified>
  <cp:revision>4</cp:revision>
  <dc:subject/>
  <dc:title>Supporting Information Products</dc:title>
</cp:coreProperties>
</file>